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9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2.wmf" ContentType="image/x-wmf"/>
  <Override PartName="/ppt/media/image7.jpeg" ContentType="image/jpeg"/>
  <Override PartName="/ppt/media/image8.wmf" ContentType="image/x-wmf"/>
  <Override PartName="/ppt/media/image10.jpeg" ContentType="image/jpeg"/>
  <Override PartName="/ppt/media/image1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C7D3C-60F0-40DA-9661-1CC0B7267895}" type="slidenum"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FFACB-A34C-466A-8136-1144E5FE974D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33DB8-1C62-4991-8548-6216C51FA35A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D9D10-E392-4184-BF98-8B762048726A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A8099-D4B2-4F55-B8C0-F4333506D427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01CC0-B3D1-4267-8D31-C3BE234B0252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3093B-7CCE-42FB-9994-2D87AFA61E9F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3E39F-D9A6-4CB4-854C-06FB1F209805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DC9DA-9C75-4A16-8302-AE5BB0A2054E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C2E6C-95DC-4D6F-B380-712CC512672F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7218E-4674-405F-BE80-04B412F4D978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E0D9A-E299-4E14-AAEB-C2EB058CF791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782A4-0AD8-4386-8585-6174F1DF32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Prāta vētr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BF73B-8F90-422A-A307-29AF84E93F04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C429D-E091-4FA3-B3D2-9E5913F2B851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755C-3714-4DAC-B9AC-831863420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2005-7DDF-45AF-841E-949CEAD5F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53E1-874B-4969-87D3-83F549614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EFC2-AE95-4642-ADD3-2E042D099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F1E0C-38EC-4E75-A51E-38EBFF9E8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0D723-9E97-4352-B841-E1D2D0941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F9ACD-6E0E-4B81-ADA0-6024A99FB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1E4CD-0DC5-4DC0-BDE7-4D527159E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67AE8-0C98-4593-832E-37BD63A5E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8ADB1-A1EF-4F1D-BAC0-2BD55F9BC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AAFCF-CF2F-4C19-8FA3-8ED8D9074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461B-EDDB-4AA9-ABD8-BB1B73767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6315F-5B61-4646-9E02-10C1AD169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B0AE7-D53C-4905-85E5-8BD397A2B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7DB34-2892-4C3B-8869-7E951F2E0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C699B-D5EA-4AA0-82C2-BFA370C81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D55AA-D6F3-4FA2-B10D-51AB70D18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54C8-75B8-45F2-9248-DF1D88540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832E-22FC-439D-822B-08C3970D5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3FDC-FA37-4642-8B62-A2204F810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3E24-435E-4338-958B-E62953AFC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E62C-5020-47DC-9732-2073895C9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3EAA-2DA5-4D5E-BEC4-FA7B17766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448E-5C11-4E1F-B10C-3540DB7AB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B09E7-3DCE-4DE6-9736-168833096970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B2874-4B62-46C8-9C58-D1D4038337FE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42960" y="3789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Kā jaunietim iepazīt sevi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50560" y="5157720"/>
            <a:ext cx="87138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98989"/>
                </a:solidFill>
                <a:latin typeface="Calibri"/>
              </a:rPr>
              <a:t>Atbalsts darbam ar vecāk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468360" y="549360"/>
            <a:ext cx="82296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PRAKTISKAIS T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468360" y="1197000"/>
            <a:ext cx="849636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1240" indent="-284040"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9"/>
          <p:cNvSpPr/>
          <p:nvPr/>
        </p:nvSpPr>
        <p:spPr>
          <a:xfrm>
            <a:off x="468360" y="1773360"/>
            <a:ext cx="8064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Praktiskais personības tips ir: 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reāli domājoši; labprāt strādā roku darbu vai lieto instrumentus un ierīces, risina tehniskas dabas problēmas; rūpējas par augiem un dzīvniekiem, strādā ārā; labprātāk veic praktisku darbu nekā teorētisku, intelektuālu darb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Praktiskā vide: 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fiziskas darbības, darbs ar instrumentiem aparātiem, mašīnām; praktisku uzdevumu risināšana; nepieciešama roku veiklība un tehniskās zināšan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10" descr="MC900186084"/>
          <p:cNvPicPr/>
          <p:nvPr/>
        </p:nvPicPr>
        <p:blipFill>
          <a:blip r:embed="rId1"/>
          <a:stretch/>
        </p:blipFill>
        <p:spPr>
          <a:xfrm>
            <a:off x="7308720" y="4581360"/>
            <a:ext cx="1419480" cy="140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468360" y="476280"/>
            <a:ext cx="82296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IZZINOŠAIS T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9"/>
          <p:cNvSpPr/>
          <p:nvPr/>
        </p:nvSpPr>
        <p:spPr>
          <a:xfrm>
            <a:off x="468360" y="1628640"/>
            <a:ext cx="7920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Izzinošais personības tips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dod priekšroku pētnieciskai darbībai, lai novērotu, mācītos, analizētu un rastu problēmu risinājumus; raksturīga oriģinalitāte, zinātkāre, analītiskā domāšana; labāk patīk strādāt vienatnē vai vidē, kur nav jākontaktējas un jāsadarbojas ar daudz un dažādiem cilvēkiem, bieži trūkst organizatora talan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Izzinošā vide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jānoskaidro dažādu parādību pamatā esošie iemesli un jāmeklē problēmu risinājums; darbs saistīts ar abstraktu ideju vai dabas un sociālo parādību izpēti, sakarību meklēšanu, jaunu teorētisko atziņu radīšan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6" descr="advice,answers,asking,cartoons,education,exclamation marks,iStockphoto,learning,librarians,professors,questions,solutions,students,wisdom"/>
          <p:cNvPicPr/>
          <p:nvPr/>
        </p:nvPicPr>
        <p:blipFill>
          <a:blip r:embed="rId1"/>
          <a:stretch/>
        </p:blipFill>
        <p:spPr>
          <a:xfrm>
            <a:off x="7524720" y="2637000"/>
            <a:ext cx="1548000" cy="154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468360" y="549360"/>
            <a:ext cx="82296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MĀKSLINIECISKAIS T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468360" y="1557360"/>
            <a:ext cx="8280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Mākslinieciskas personības tips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individuālists ar mākslinieciskiem talantiem, radošu domāšanu; labprāt izmanto iztēli un izsaka sevi oriģinālā un nesistemātiskā veidā; nepatīk vienveidība, stingrs darba režīms, darbs ar konkrētiem, precīzi definētiem darba uzdevumiem, instrukcijā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Mākslinieciskā vide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atklāta, brīva, ar nestrukturētām darba stundām, prasa iniciatīvu un radošu domāšanu; maksimāli novērtē personas mākslinieciskās un emocionālās izpausmes veid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8" descr="artists,cartoonists,cartoons,entertainment,males,men,persons"/>
          <p:cNvPicPr/>
          <p:nvPr/>
        </p:nvPicPr>
        <p:blipFill>
          <a:blip r:embed="rId1"/>
          <a:srcRect l="0" t="5675" r="0" b="0"/>
          <a:stretch/>
        </p:blipFill>
        <p:spPr>
          <a:xfrm>
            <a:off x="7164360" y="4863960"/>
            <a:ext cx="1530360" cy="144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395280" y="549360"/>
            <a:ext cx="82296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SOCIĀLAIS T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468360" y="1700280"/>
            <a:ext cx="8136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Sociālais personības tips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labprāt strādā ar cilvēkiem, lai informētu, konsultētu, palīdzētu, izglītotu, rūpētos; raksturīgas labas saskarsmes iemaņas, bet nereti trūkt zinātniska un/vai tehniska darba iemaņu, priekšroku dod darbam ar cilvēkiem, nevis ar datiem, lietām vai idejā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Sociālā vide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darbs saistīts ar atbalsta sniegšanu, sociālās labklājības vairošanu, citu cilvēku attīstīšanu un izglītošan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10" descr="MC900383366"/>
          <p:cNvPicPr/>
          <p:nvPr/>
        </p:nvPicPr>
        <p:blipFill>
          <a:blip r:embed="rId1"/>
          <a:stretch/>
        </p:blipFill>
        <p:spPr>
          <a:xfrm>
            <a:off x="7020000" y="4653000"/>
            <a:ext cx="1890720" cy="159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468360" y="476280"/>
            <a:ext cx="82296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UZŅĒMĪGAIS T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539640" y="1700280"/>
            <a:ext cx="8064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Uzņēmīgais personības tips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pašpaļāvīgi, ekstraverti cilvēki, kuri labprāt uzņemas risku, pārliecina, vada un ietekmē cilvēkus, nodarbojas paši ar savu biznesu, sasniedz ievērojamu sociālo stāvokli; viņi dod priekšroku vadīt citus, nevis būt vadītiem; bieži pietrūkst zinātniskā darba iemaņ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Uzņēmību rosinoša vide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orientācija uz sasniegumiem, konkurence; darbā nepieciešams vadīt un pārliecināt cilvēkus rīkoties, lai sasniegtu organizācijas, finanšu vai ekonomiskos mērķ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10" descr="MC900383266"/>
          <p:cNvPicPr/>
          <p:nvPr/>
        </p:nvPicPr>
        <p:blipFill>
          <a:blip r:embed="rId1"/>
          <a:stretch/>
        </p:blipFill>
        <p:spPr>
          <a:xfrm>
            <a:off x="7524720" y="5013360"/>
            <a:ext cx="1263600" cy="112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468360" y="476280"/>
            <a:ext cx="82296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ONVENCIONĀLAIS T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8"/>
          <p:cNvSpPr/>
          <p:nvPr/>
        </p:nvSpPr>
        <p:spPr>
          <a:xfrm>
            <a:off x="395280" y="1628640"/>
            <a:ext cx="8136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Konvencionālais personības tips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patīk pedantisks, precīzs, detalizēts un sistemātisks darbs ar skaitļiem, datiem un informāciju nevis ar cilvēkiem, idejām vai lietām; neiebilst pret instrukciju saņemšanu no citiem cilvēkiem; dod priekšroku būt uzraudzītiem, nevis pašiem pieņemt lēmumus; bieži trūkst māksliniecisko spēj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Konvencionālā vide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raksturīga darba organizācija un plānošana, darbs parasti tiek veikts birojā, ir saistīts ar datiem, pārskatiem, dokumentiem un prasa kārtību; visas darbības ir prognozējamas un atbilst pieņemtajai kārtība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9" descr="MC900435981"/>
          <p:cNvPicPr/>
          <p:nvPr/>
        </p:nvPicPr>
        <p:blipFill>
          <a:blip r:embed="rId1"/>
          <a:stretch/>
        </p:blipFill>
        <p:spPr>
          <a:xfrm>
            <a:off x="7740720" y="3357720"/>
            <a:ext cx="1192320" cy="90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"/>
          <p:cNvGraphicFramePr/>
          <p:nvPr/>
        </p:nvGraphicFramePr>
        <p:xfrm>
          <a:off x="34920" y="1020600"/>
          <a:ext cx="9112320" cy="5793120"/>
        </p:xfrm>
        <a:graphic>
          <a:graphicData uri="http://schemas.openxmlformats.org/drawingml/2006/table">
            <a:tbl>
              <a:tblPr/>
              <a:tblGrid>
                <a:gridCol w="2701800"/>
                <a:gridCol w="2989440"/>
                <a:gridCol w="3421080"/>
              </a:tblGrid>
              <a:tr h="3942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ispārējā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zņēmējdarbīb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arjeras vadīb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3989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ika plānoš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mandas darba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ēšan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asmes mācī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ēmumu pieņemš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blēmu risināš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ritiskā domāš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vešvalodu zināšan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munikācij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dīšan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pārliecināt, ietekmēt un «pārdot» savu idej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ānošanas un koordinēšan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s strādāt mainīgos apstākļ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došu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s strādāt stresa apstākļ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ēlme uzņemties risk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asmes veidot kontaktus un sadarbo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vis izpratne (prasme apzināties un izvērtēt savas intereses, spējas, vērtības, u.c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rjeras iespēju pētīšanas un radīšanas prasmes (darbs ar informatīvajiem resursiem, spēju un iespēju atbilstības izvērtēšana, nepieciešamā atbalsta atrašan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rjeras plānošanas prasmes (iespējamā rīcības plāna izveidošan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ēmuma pieņemšanas prasm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tikt galā ar nenoteiktību (risināt konkrētā brīža problēmas, radoši domāt, izglītoties visa mūža garumā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39" name="Title 1"/>
          <p:cNvSpPr/>
          <p:nvPr/>
        </p:nvSpPr>
        <p:spPr>
          <a:xfrm>
            <a:off x="250920" y="404640"/>
            <a:ext cx="84978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900" spc="-1" strike="noStrike">
                <a:solidFill>
                  <a:srgbClr val="800080"/>
                </a:solidFill>
                <a:latin typeface="Calibri"/>
              </a:rPr>
              <a:t>DARBA TIRGŪ PIEPRASĪTĀS PRASME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50560" y="500040"/>
            <a:ext cx="889308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00080"/>
                </a:solidFill>
                <a:latin typeface="Calibri"/>
              </a:rPr>
              <a:t>AKTIVITĀTES, KURAS VEICINA </a:t>
            </a:r>
            <a:br>
              <a:rPr sz="3200"/>
            </a:br>
            <a:r>
              <a:rPr b="1" lang="lv-LV" sz="3200" spc="-1" strike="noStrike">
                <a:solidFill>
                  <a:srgbClr val="800080"/>
                </a:solidFill>
                <a:latin typeface="Calibri"/>
              </a:rPr>
              <a:t>DARBA TIRGŪ NEPIECIEŠAMO PRASMJU ATTĪSTĪBU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24000" y="1483920"/>
            <a:ext cx="8640720" cy="49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Piedalīšanās interešu pulciņos, organizācijās, skolēnu apvienībās un klubos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Piedalīšanās mācību priekšmetu olimpiādēs vai sporta sacensībās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Papildu apmācība un prasmju attīstības kursi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Ikdienas pienākumi ģimenē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Brīvdienu ceļojumi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Dažādu analītisku materiālu sagatavošana, kam nepieciešama informācijas vākšana un atlase, kā arī secinājumu izdarīšana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Runu un prezentāciju sagatavošana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Piedalīšanās grupas darbā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Mūsdienu informācijas tehnoloģiju − interneta, multimediju − izmantošana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7200" indent="0">
              <a:lnSpc>
                <a:spcPct val="90000"/>
              </a:lnSpc>
              <a:spcBef>
                <a:spcPts val="10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KĀ ATBALSTĪT SAVU BĒRNU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6836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6a7b"/>
                </a:solidFill>
                <a:latin typeface="Calibri"/>
              </a:rPr>
              <a:t>Stiprinot viņa/s izpratni pašam par sevi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6a7b"/>
                </a:solidFill>
                <a:latin typeface="Calibri"/>
              </a:rPr>
              <a:t>Sniedzot atgriezenisko saiti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6a7b"/>
                </a:solidFill>
                <a:latin typeface="Calibri"/>
              </a:rPr>
              <a:t>Attīstot viņa/s zināšanas par darbu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6a7b"/>
                </a:solidFill>
                <a:latin typeface="Calibri"/>
              </a:rPr>
              <a:t>Palīdzot viņam/i orientēties uz prasmēm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6a7b"/>
                </a:solidFill>
                <a:latin typeface="Calibri"/>
              </a:rPr>
              <a:t>Uzticot ikdienas pienākumus un palīdzot attīstīt “strādāšanas” prasme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6a7b"/>
                </a:solidFill>
                <a:latin typeface="Calibri"/>
              </a:rPr>
              <a:t>Atpazīstot un atbalstot aktivitātes, kurās bērns uzrāda labus rezultātu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6a7b"/>
                </a:solidFill>
                <a:latin typeface="Calibri"/>
              </a:rPr>
              <a:t>Iedrošinot spert nākamo soli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44" name="Picture 5" descr="business concepts,businesses,capes,characters,concepts,flying,heroes,people,saves,savings,super heroes,superheroes,superman"/>
          <p:cNvPicPr/>
          <p:nvPr/>
        </p:nvPicPr>
        <p:blipFill>
          <a:blip r:embed="rId1"/>
          <a:stretch/>
        </p:blipFill>
        <p:spPr>
          <a:xfrm>
            <a:off x="7164360" y="4653000"/>
            <a:ext cx="165420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500040"/>
            <a:ext cx="843588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UZMANĪGI PADOMĀJIET UN PABEIDZIET TEIKUMU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557000"/>
            <a:ext cx="829152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1. Mana bērna galvenās intereses ir ...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2. Mans bērns ir intelektuāli spēcīgāks šādās jomās ....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3. Manam bērnam ir ... dotības 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4. Mans bērns spēj veikt šādus uzdevumus ...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5. Mana bērna spilgtākās rakstura īpašības ir ...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6. Mana bērna vājās puses ir ...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47" name="Picture 29" descr="1st,1st place,awards,business concepts,businesses,characters,concepts,firsts,number one,people,prizes,ribbons,winners,winnings,wins"/>
          <p:cNvPicPr/>
          <p:nvPr/>
        </p:nvPicPr>
        <p:blipFill>
          <a:blip r:embed="rId1"/>
          <a:stretch/>
        </p:blipFill>
        <p:spPr>
          <a:xfrm>
            <a:off x="7886880" y="1434960"/>
            <a:ext cx="1223640" cy="12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NODARBĪBAS MĒRĶI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Content Placeholder 2"/>
          <p:cNvSpPr/>
          <p:nvPr/>
        </p:nvSpPr>
        <p:spPr>
          <a:xfrm>
            <a:off x="468360" y="1557360"/>
            <a:ext cx="828036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Izprast karjeras plānošanas nosacījumu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Iemācīties analizēt bērna ikdienas pieredzi, lai labāk apzinātos viņa intereses un stiprās p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Apzināt veidus, kā attīstīt bērna intereses un stiprās p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KOPSAVILKUM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Ko Jūs šodien jaunu guvāt?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Jūsu secinājumi, atziņas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Paldies par uzmanību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50" name="Picture 8" descr="bright ideas,business concepts,businesses,characters,concepts,ideas,inspirations,light bulbs,lightbulbs,people"/>
          <p:cNvPicPr/>
          <p:nvPr/>
        </p:nvPicPr>
        <p:blipFill>
          <a:blip r:embed="rId1"/>
          <a:stretch/>
        </p:blipFill>
        <p:spPr>
          <a:xfrm>
            <a:off x="3924360" y="4365720"/>
            <a:ext cx="187164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SATUR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277920" y="1424160"/>
            <a:ext cx="8686800" cy="48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675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700" spc="-1" strike="noStrike">
                <a:solidFill>
                  <a:srgbClr val="1f497d"/>
                </a:solidFill>
                <a:latin typeface="Arial"/>
              </a:rPr>
              <a:t>Karjeras plānošanas pamatnosacījumi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75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700" spc="-1" strike="noStrike">
                <a:solidFill>
                  <a:srgbClr val="1f497d"/>
                </a:solidFill>
                <a:latin typeface="Arial"/>
              </a:rPr>
              <a:t>Kāpēc ir svarīgi iepazīt sevi pirms plānot karjeru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75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700" spc="-1" strike="noStrike">
                <a:solidFill>
                  <a:srgbClr val="1f497d"/>
                </a:solidFill>
                <a:latin typeface="Arial"/>
              </a:rPr>
              <a:t>Vecumposmu īpatnības karjeras plānošanas procesā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75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700" spc="-1" strike="noStrike">
                <a:solidFill>
                  <a:srgbClr val="1f497d"/>
                </a:solidFill>
                <a:latin typeface="Arial"/>
              </a:rPr>
              <a:t>Kur un kā bērns iegūst informāciju par sevi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75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700" spc="-1" strike="noStrike">
                <a:solidFill>
                  <a:srgbClr val="1f497d"/>
                </a:solidFill>
                <a:latin typeface="Arial"/>
              </a:rPr>
              <a:t>Kā analizēt ikdienas pieredzi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75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700" spc="-1" strike="noStrike">
                <a:solidFill>
                  <a:srgbClr val="1f497d"/>
                </a:solidFill>
                <a:latin typeface="Arial"/>
              </a:rPr>
              <a:t>Dž. Hollanda karjeras teorij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75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700" spc="-1" strike="noStrike">
                <a:solidFill>
                  <a:srgbClr val="1f497d"/>
                </a:solidFill>
                <a:latin typeface="Arial"/>
              </a:rPr>
              <a:t>Kā atbalstīt savu bērnu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75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700" spc="-1" strike="noStrike">
                <a:solidFill>
                  <a:srgbClr val="1f497d"/>
                </a:solidFill>
                <a:latin typeface="Arial"/>
              </a:rPr>
              <a:t>Kopsavilkum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7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497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ARJERAS PLĀNOŠANAS NOSACĪJUMI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96" name="Group 13"/>
          <p:cNvGrpSpPr/>
          <p:nvPr/>
        </p:nvGrpSpPr>
        <p:grpSpPr>
          <a:xfrm>
            <a:off x="539640" y="1557360"/>
            <a:ext cx="8115480" cy="4775040"/>
            <a:chOff x="539640" y="1557360"/>
            <a:chExt cx="8115480" cy="4775040"/>
          </a:xfrm>
        </p:grpSpPr>
        <p:pic>
          <p:nvPicPr>
            <p:cNvPr id="97" name="Picture 2" descr="C:\Users\Nora.Kaleja\Desktop\Picture1.png"/>
            <p:cNvPicPr/>
            <p:nvPr/>
          </p:nvPicPr>
          <p:blipFill>
            <a:blip r:embed="rId1"/>
            <a:srcRect l="18135" t="1702" r="22935" b="-409"/>
            <a:stretch/>
          </p:blipFill>
          <p:spPr>
            <a:xfrm>
              <a:off x="2721240" y="2291760"/>
              <a:ext cx="3407040" cy="296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Rounded Rectangular Callout 11"/>
            <p:cNvSpPr/>
            <p:nvPr/>
          </p:nvSpPr>
          <p:spPr>
            <a:xfrm>
              <a:off x="900000" y="1917720"/>
              <a:ext cx="1563480" cy="1296720"/>
            </a:xfrm>
            <a:prstGeom prst="wedgeRoundRectCallout">
              <a:avLst>
                <a:gd name="adj1" fmla="val 97851"/>
                <a:gd name="adj2" fmla="val 46365"/>
                <a:gd name="adj3" fmla="val 16667"/>
              </a:avLst>
            </a:prstGeom>
            <a:solidFill>
              <a:srgbClr val="ffffff"/>
            </a:solidFill>
            <a:ln w="2556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1600" spc="-1" strike="noStrike">
                  <a:solidFill>
                    <a:srgbClr val="17375e"/>
                  </a:solidFill>
                  <a:latin typeface="Calibri"/>
                </a:rPr>
                <a:t>MAN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INTERESE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VĒLME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VĒRTĪBA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ounded Rectangular Callout 12"/>
            <p:cNvSpPr/>
            <p:nvPr/>
          </p:nvSpPr>
          <p:spPr>
            <a:xfrm>
              <a:off x="6299280" y="1557360"/>
              <a:ext cx="2355840" cy="1726920"/>
            </a:xfrm>
            <a:prstGeom prst="wedgeRoundRectCallout">
              <a:avLst>
                <a:gd name="adj1" fmla="val -80805"/>
                <a:gd name="adj2" fmla="val 43217"/>
                <a:gd name="adj3" fmla="val 16667"/>
              </a:avLst>
            </a:prstGeom>
            <a:solidFill>
              <a:srgbClr val="ffffff"/>
            </a:solidFill>
            <a:ln w="2556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1600" spc="-1" strike="noStrike">
                  <a:solidFill>
                    <a:srgbClr val="17375e"/>
                  </a:solidFill>
                  <a:latin typeface="Calibri"/>
                </a:rPr>
                <a:t>MAN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SPĒJA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PRASME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ZINĀŠANA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RAKSTURA ĪPAŠĪBA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VESELĪBAS STĀVOKLI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FINANSIĀLĀS IESPĒJA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ounded Rectangular Callout 13"/>
            <p:cNvSpPr/>
            <p:nvPr/>
          </p:nvSpPr>
          <p:spPr>
            <a:xfrm>
              <a:off x="539640" y="4076640"/>
              <a:ext cx="2808360" cy="2232000"/>
            </a:xfrm>
            <a:prstGeom prst="wedgeRoundRectCallout">
              <a:avLst>
                <a:gd name="adj1" fmla="val 67217"/>
                <a:gd name="adj2" fmla="val -33148"/>
                <a:gd name="adj3" fmla="val 16667"/>
              </a:avLst>
            </a:prstGeom>
            <a:solidFill>
              <a:srgbClr val="ffffff"/>
            </a:solidFill>
            <a:ln w="2556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1600" spc="-1" strike="noStrike">
                  <a:solidFill>
                    <a:srgbClr val="17375e"/>
                  </a:solidFill>
                  <a:latin typeface="Calibri"/>
                </a:rPr>
                <a:t>DARBA TIRGU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PROFESIJU “+” un “-”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DARBA VID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PIEPRASĪJUMS un PROGNOZE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ATALGOJUMS UN IZAUGSMES IESPĒJA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NODARBINĀTĪBAS VEIDI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DARBA MEKLĒŠANA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ounded Rectangular Callout 14"/>
            <p:cNvSpPr/>
            <p:nvPr/>
          </p:nvSpPr>
          <p:spPr>
            <a:xfrm>
              <a:off x="5724720" y="4149720"/>
              <a:ext cx="2844720" cy="2182680"/>
            </a:xfrm>
            <a:prstGeom prst="wedgeRoundRectCallout">
              <a:avLst>
                <a:gd name="adj1" fmla="val -75912"/>
                <a:gd name="adj2" fmla="val -37037"/>
                <a:gd name="adj3" fmla="val 16667"/>
              </a:avLst>
            </a:prstGeom>
            <a:solidFill>
              <a:srgbClr val="ffffff"/>
            </a:solidFill>
            <a:ln w="2556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1600" spc="-1" strike="noStrike">
                  <a:solidFill>
                    <a:srgbClr val="17375e"/>
                  </a:solidFill>
                  <a:latin typeface="Calibri"/>
                </a:rPr>
                <a:t>IZGLĪTĪBAS IESPĒJ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PROFESIONĀLĀS KVALIFIKĀCIJAS  UN IZGLĪTĪBAS LĪMEŅI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MĀCĪBU SATUR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IESTĀŠANĀS NOTEIKUMI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MĀCĪBU ILGUMS UN VIETA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FINANSIĀLAIS IEGULDĪJUM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23640" y="476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ARJERAS PLĀNOŠANAS PROCESA POSMI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050560" y="1989000"/>
            <a:ext cx="648180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6a7b"/>
                </a:solidFill>
                <a:latin typeface="ZapfCalligr TL"/>
              </a:rPr>
              <a:t>Vecums</a:t>
            </a:r>
            <a:r>
              <a:rPr b="1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r>
              <a:rPr b="1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r>
              <a:rPr b="1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r>
              <a:rPr b="1" lang="lv-LV" sz="2800" spc="-1" strike="noStrike">
                <a:solidFill>
                  <a:srgbClr val="006a7b"/>
                </a:solidFill>
                <a:latin typeface="ZapfCalligr TL"/>
              </a:rPr>
              <a:t>Posms</a:t>
            </a:r>
            <a:r>
              <a:rPr b="1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6a7b"/>
                </a:solidFill>
                <a:latin typeface="ZapfCalligr TL"/>
              </a:rPr>
              <a:t>  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4 - 10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fantāziju posm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11 - 12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interešu posm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13 - 14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spēju posm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14 - 15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vērtību posm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16 - 17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pārejas posm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04" name="Picture 6" descr="advancements,advances,business concepts,businesses,characters,climbing,concepts,people,promotions,running,staircases,stairs,stairways,steps,ups"/>
          <p:cNvPicPr/>
          <p:nvPr/>
        </p:nvPicPr>
        <p:blipFill>
          <a:blip r:embed="rId1"/>
          <a:srcRect l="0" t="0" r="4000" b="0"/>
          <a:stretch/>
        </p:blipFill>
        <p:spPr>
          <a:xfrm>
            <a:off x="179280" y="4149720"/>
            <a:ext cx="17971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800080"/>
                </a:solidFill>
                <a:latin typeface="Calibri"/>
              </a:rPr>
              <a:t>KARJERAS PLĀNOŠANA</a:t>
            </a: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S SOĻI – KO JAUNIETIS VAR DARĪT JAU ŠODIEN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spcAft>
                <a:spcPts val="2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c00000"/>
                </a:solidFill>
                <a:latin typeface="Tahoma"/>
              </a:rPr>
              <a:t>Izzināt sevi </a:t>
            </a:r>
            <a:endParaRPr b="0" lang="en-US" sz="40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1001"/>
              </a:spcBef>
              <a:spcAft>
                <a:spcPts val="2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c00000"/>
                </a:solidFill>
                <a:latin typeface="Tahoma"/>
              </a:rPr>
              <a:t>	</a:t>
            </a:r>
            <a:r>
              <a:rPr b="0" lang="lv-LV" sz="4000" spc="-1" strike="noStrike">
                <a:solidFill>
                  <a:srgbClr val="c00000"/>
                </a:solidFill>
                <a:latin typeface="Tahoma"/>
              </a:rPr>
              <a:t>Izpētīt profesijas un izglītības iespējas</a:t>
            </a:r>
            <a:r>
              <a:rPr b="0" lang="lv-LV" sz="40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0">
              <a:lnSpc>
                <a:spcPct val="100000"/>
              </a:lnSpc>
              <a:spcBef>
                <a:spcPts val="1001"/>
              </a:spcBef>
              <a:spcAft>
                <a:spcPts val="29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006a7b"/>
                </a:solidFill>
                <a:latin typeface="Tahoma"/>
              </a:rPr>
              <a:t>	</a:t>
            </a:r>
            <a:r>
              <a:rPr b="0" lang="lv-LV" sz="4000" spc="-1" strike="noStrike">
                <a:solidFill>
                  <a:srgbClr val="006a7b"/>
                </a:solidFill>
                <a:latin typeface="Tahoma"/>
              </a:rPr>
              <a:t>	</a:t>
            </a:r>
            <a:r>
              <a:rPr b="0" lang="lv-LV" sz="4000" spc="-1" strike="noStrike">
                <a:solidFill>
                  <a:srgbClr val="c00000"/>
                </a:solidFill>
                <a:latin typeface="Tahoma"/>
              </a:rPr>
              <a:t>Pieņemt lēmumu </a:t>
            </a:r>
            <a:endParaRPr b="0" lang="en-US" sz="40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0">
              <a:lnSpc>
                <a:spcPct val="100000"/>
              </a:lnSpc>
              <a:spcBef>
                <a:spcPts val="799"/>
              </a:spcBef>
              <a:spcAft>
                <a:spcPts val="29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Tahoma"/>
              </a:rPr>
              <a:t>	</a:t>
            </a:r>
            <a:r>
              <a:rPr b="0" lang="lv-LV" sz="3200" spc="-1" strike="noStrike">
                <a:solidFill>
                  <a:srgbClr val="006a7b"/>
                </a:solidFill>
                <a:latin typeface="Tahoma"/>
              </a:rPr>
              <a:t>	</a:t>
            </a:r>
            <a:r>
              <a:rPr b="0" lang="lv-LV" sz="3200" spc="-1" strike="noStrike">
                <a:solidFill>
                  <a:srgbClr val="006a7b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spcAft>
                <a:spcPts val="2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cxnSp>
        <p:nvCxnSpPr>
          <p:cNvPr id="107" name="Straight Arrow Connector 5"/>
          <p:cNvCxnSpPr/>
          <p:nvPr/>
        </p:nvCxnSpPr>
        <p:spPr>
          <a:xfrm>
            <a:off x="1547280" y="2276280"/>
            <a:ext cx="289440" cy="432360"/>
          </a:xfrm>
          <a:prstGeom prst="straightConnector1">
            <a:avLst/>
          </a:prstGeom>
          <a:ln w="5724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08" name="Straight Arrow Connector 6"/>
          <p:cNvCxnSpPr/>
          <p:nvPr/>
        </p:nvCxnSpPr>
        <p:spPr>
          <a:xfrm>
            <a:off x="2843280" y="4005000"/>
            <a:ext cx="289440" cy="432360"/>
          </a:xfrm>
          <a:prstGeom prst="straightConnector1">
            <a:avLst/>
          </a:prstGeom>
          <a:ln w="57240">
            <a:solidFill>
              <a:srgbClr val="c00000"/>
            </a:solidFill>
            <a:miter/>
            <a:tailEnd len="med" type="arrow" w="med"/>
          </a:ln>
        </p:spPr>
      </p:cxnSp>
      <p:pic>
        <p:nvPicPr>
          <p:cNvPr id="109" name="Picture 8" descr="business,businessmen,choices,choosing,deciding,decisions,doors,keyholes,locks,males,metaphors,people,persons,skeleton keys"/>
          <p:cNvPicPr/>
          <p:nvPr/>
        </p:nvPicPr>
        <p:blipFill>
          <a:blip r:embed="rId1"/>
          <a:stretch/>
        </p:blipFill>
        <p:spPr>
          <a:xfrm>
            <a:off x="3492360" y="5084640"/>
            <a:ext cx="1511280" cy="151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46836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Kas </a:t>
            </a: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viņu</a:t>
            </a: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 interesē – un kāpēc tas viņu interesē?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Vai </a:t>
            </a: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viņam/-i </a:t>
            </a: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padodas tas, kas viņu interesē?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Kas </a:t>
            </a: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viņam/-i </a:t>
            </a: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padodas?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Vai </a:t>
            </a: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viņu</a:t>
            </a: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 interesē tas, kas viņam/-i padodas?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Kas </a:t>
            </a: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viņu</a:t>
            </a: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 ierobežo? 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Kas </a:t>
            </a: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viņu</a:t>
            </a: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 balsta?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Kādas ir </a:t>
            </a: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viņa/-s </a:t>
            </a: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vērtības?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lvl="1" marL="335880" indent="-3358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Ko </a:t>
            </a: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viņš/-a </a:t>
            </a: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gribu sasniegt nākotnē?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1" name="Rectangle 27"/>
          <p:cNvSpPr/>
          <p:nvPr/>
        </p:nvSpPr>
        <p:spPr>
          <a:xfrm>
            <a:off x="395280" y="549360"/>
            <a:ext cx="822960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900" spc="-1" strike="noStrike">
                <a:solidFill>
                  <a:srgbClr val="800080"/>
                </a:solidFill>
                <a:latin typeface="Calibri"/>
              </a:rPr>
              <a:t>KO UZZINĀT PAR JAUNIETI</a:t>
            </a:r>
            <a:r>
              <a:rPr b="0" lang="lv-LV" sz="3200" spc="-1" strike="noStrike">
                <a:solidFill>
                  <a:srgbClr val="006a7b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6" descr="business concepts,businesses,characters,concepts,looking,looks,magnifiers,magnifying,magnifying glasses,people,searches,searching"/>
          <p:cNvPicPr/>
          <p:nvPr/>
        </p:nvPicPr>
        <p:blipFill>
          <a:blip r:embed="rId1"/>
          <a:stretch/>
        </p:blipFill>
        <p:spPr>
          <a:xfrm>
            <a:off x="6659640" y="3819600"/>
            <a:ext cx="1784160" cy="21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6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UR IKDIENĀ IZPAUŽAS INTERESES, SPĒJAS, RAKSTURA ĪPAŠĪBA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5760" y="1469520"/>
            <a:ext cx="8229600" cy="506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Pildot mājas darbus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Ikdienas pienākumos ģimenē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Brīvajā laikā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Saskarsmē ar pieaugušajiem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Sadarbībā ar klasesbiedriem un draugiem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Interešu nodarbībās, hobijos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Tiekoties ar draugiem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Mācību stundās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Starpbrīžos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.....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15" name="Picture 5" descr="business concepts,businesses,characters,concepts,drawings,draws,happy faces,pencils,pens,people,smiley,smiley face,smiley faces,smileys,smilie,smilie face,smilie faces,smilies,smily,smily face,smily faces,smilys,writes,writings"/>
          <p:cNvPicPr/>
          <p:nvPr/>
        </p:nvPicPr>
        <p:blipFill>
          <a:blip r:embed="rId1"/>
          <a:stretch/>
        </p:blipFill>
        <p:spPr>
          <a:xfrm>
            <a:off x="6541920" y="4149720"/>
            <a:ext cx="214344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539640" y="333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900" spc="-1" strike="noStrike">
                <a:solidFill>
                  <a:srgbClr val="800080"/>
                </a:solidFill>
                <a:latin typeface="Calibri"/>
              </a:rPr>
              <a:t>DŽ. HOLLANDA TIPOLOĢIJA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468360" y="1341360"/>
            <a:ext cx="849636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1"/>
          <p:cNvSpPr/>
          <p:nvPr/>
        </p:nvSpPr>
        <p:spPr>
          <a:xfrm>
            <a:off x="250920" y="1413000"/>
            <a:ext cx="874872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Var izdalīt sešus personību tipus un sešus darba vides/profesiju pamattipus, kas atbilst katram no iepriekš minētajiem personību tipi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Arial"/>
              </a:rPr>
              <a:t>Praktisko tipu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Arial"/>
              </a:rPr>
              <a:t>Izzinošo tipu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Arial"/>
              </a:rPr>
              <a:t>Māksliniecisko tipu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Arial"/>
              </a:rPr>
              <a:t>Sociālo tipu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Arial"/>
              </a:rPr>
              <a:t>Uzņēmīgo tipu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Arial"/>
              </a:rPr>
              <a:t>Konvencionālo tipu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Cilvēks savai profesionālai darbībai meklē tādu vidi, kurā viņš spētu atklāt savu personību, parādīt un attīstīt savas prasmes un spējas, paust savu attieksmi un vērtējumu, kā arī – pieņemt noteikumus, kurus izvirza konkrētais profesionālās darbības veids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2:41:07Z</dcterms:created>
  <dc:creator>rinalds</dc:creator>
  <dc:description/>
  <dc:language>en-US</dc:language>
  <cp:lastModifiedBy>Nora.Kaleja</cp:lastModifiedBy>
  <dcterms:modified xsi:type="dcterms:W3CDTF">2013-10-11T09:37:30Z</dcterms:modified>
  <cp:revision>326</cp:revision>
  <dc:subject/>
  <dc:title>Slide 1</dc:title>
</cp:coreProperties>
</file>